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5CB-99BD-43D6-9F73-E3552DE2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F40-25DF-4874-B10E-D25FBE52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E51-E2B4-41FF-9318-BB16DF00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AFA-0C65-4050-BCBB-289D405A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D35-6BFD-4B2C-B125-5C5211F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F0E-0E48-40E2-A259-A6E570F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1A3-1345-4E7D-8982-07931F7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9ED-C91E-4367-88CB-639810E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D2E-F3D4-454E-BA6F-286056D4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3E2-8FBF-4226-BD10-8DFEEF8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ECB-8073-44C3-B44C-80FF890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EF9-7FA8-4BE8-A92F-F806D36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CEDF-8C4C-4A7B-AAD9-C611F7A7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38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8T18:40:41Z</dcterms:modified>
  <cp:revision>18</cp:revision>
  <dc:subject/>
  <dc:title>TITLE</dc:title>
</cp:coreProperties>
</file>