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31F3-0FB0-45C1-8FF9-807768FE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1F4F-AC71-4F40-B452-298E67CE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C32A-B9B5-454F-9AA1-7835C07B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2A43-1BD5-4DD7-9296-67F9621D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2647-B6C1-49F4-B95C-B759073F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AA9-BA2F-48B0-864D-B7668960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6EA-CA36-444E-831B-FCEACB8B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C419-0DCE-4B8B-BD49-9EC1F0AA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F42-266B-41D8-A4EF-CCFE7F79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FE6B-EDF7-410D-ACAB-2CBFE253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9FD-BB25-421A-94B3-42DBEEAF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5A79-7E36-48D1-8905-084D9CDD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15CA-C809-45C4-A49C-6324CAA28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5-27T02:26:29Z</dcterms:modified>
  <cp:revision>6</cp:revision>
  <dc:subject/>
  <dc:title>Diapositiva 1</dc:title>
</cp:coreProperties>
</file>