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DEE-A20F-4541-AE01-46082F5E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419-A92C-4AD5-9155-962700CE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7EE-4015-4541-937F-012A034B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9EF-84C6-423C-A28A-2CC6D6D0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80A-E38B-4E9D-A375-AEAD0E5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845-D5E6-43D5-98A5-7D96069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B7B-0177-4020-BE21-9CFB599A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60E-5E91-45C6-B540-9EA5AD7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D06-E6BE-490C-816D-BC3A0E54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285-BB23-4078-930F-FAA37FE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27A-E20B-408E-9DD9-47DA329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0D0-CC9E-4134-BD08-71B1EF3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F16-100C-4366-97B8-B430FD3F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31:33Z</dcterms:created>
  <dc:creator>Mariajose</dc:creator>
  <dc:description/>
  <dc:language>en-US</dc:language>
  <cp:lastModifiedBy>Mariajose</cp:lastModifiedBy>
  <dcterms:modified xsi:type="dcterms:W3CDTF">2008-10-01T01:36:53Z</dcterms:modified>
  <cp:revision>2</cp:revision>
  <dc:subject/>
  <dc:title>Title</dc:title>
</cp:coreProperties>
</file>